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4B3A-EB51-40C3-86FD-AE12D694F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F536-A7E6-4416-BF6E-2571CCE64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B9E4-6E6C-4FFF-87B5-CCD3AA86D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530A-AD49-4B24-8CF4-0F0EE910C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DB65-E197-4063-A27C-99A7512FC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D4CC-7055-4735-BC8F-DACDDD702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057D-9DBD-4C51-AE90-A6B68BCF4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EC3A-635D-46D9-8C10-68C1969EB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B634-2AB8-46E7-A239-91DFB7B89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0C78-94B9-4091-A70D-F2A07B015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CA94-65F3-41AE-85C4-D68A1953E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AA34-6A25-44D4-8818-13AAECD25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B691A-EA1D-41C7-8224-04DAAA4D7C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comic"/>
              </a:rPr>
              <a:t>Planet Presenta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rush Script MT"/>
              </a:rPr>
              <a:t>Group Members:Jack,Alec,Abbi, Lau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lanet Defin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n object with a great amount of mass exceeding 0.055 (Earth=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ust orbit a star with a gravitational pu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ust have at least one moon orbiting around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ust not be farther than 5000 million km. away from the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 rotational period must not take more than two Earth day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 orbital period must be less than 400 d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2438280"/>
            <a:ext cx="82296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Our Diameter and Mass grap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0" y="0"/>
          <a:ext cx="9144000" cy="6872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7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72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7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0" y="0"/>
          <a:ext cx="9144000" cy="6872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7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1T22:22:51Z</dcterms:created>
  <dc:creator>mchamorro</dc:creator>
  <dc:description/>
  <dc:language>en-US</dc:language>
  <cp:lastModifiedBy>ASD</cp:lastModifiedBy>
  <dcterms:modified xsi:type="dcterms:W3CDTF">2011-02-16T21:58:01Z</dcterms:modified>
  <cp:revision>4</cp:revision>
  <dc:subject/>
  <dc:title>Planet Presentation</dc:title>
</cp:coreProperties>
</file>